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ACA5-9235-4E4E-A294-163619A7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527-E079-4C1B-9047-2F4D4FC95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94236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856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216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3960" y="119664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216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3960" y="3942360"/>
            <a:ext cx="24872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99640" y="115560"/>
            <a:ext cx="770436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8560" y="394236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196640"/>
            <a:ext cx="3769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942360"/>
            <a:ext cx="7724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0"/>
          <p:cNvSpPr/>
          <p:nvPr/>
        </p:nvSpPr>
        <p:spPr>
          <a:xfrm rot="5400000">
            <a:off x="4320" y="3354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2"/>
          <p:cNvSpPr/>
          <p:nvPr/>
        </p:nvSpPr>
        <p:spPr>
          <a:xfrm>
            <a:off x="755640" y="907920"/>
            <a:ext cx="820908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 rot="5400000">
            <a:off x="4320" y="3354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>
            <a:off x="755640" y="907920"/>
            <a:ext cx="820908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vidence-based%20Decision%20Making%20Framework.ppt" TargetMode="External"/><Relationship Id="rId2" Type="http://schemas.openxmlformats.org/officeDocument/2006/relationships/hyperlink" Target="file:///Institutional%20Framework.ppt" TargetMode="External"/><Relationship Id="rId3" Type="http://schemas.openxmlformats.org/officeDocument/2006/relationships/hyperlink" Target="file:///Operational%20Framework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1"/>
          <p:cNvGrpSpPr/>
          <p:nvPr/>
        </p:nvGrpSpPr>
        <p:grpSpPr>
          <a:xfrm>
            <a:off x="1571760" y="5929200"/>
            <a:ext cx="6433560" cy="620640"/>
            <a:chOff x="1571760" y="5929200"/>
            <a:chExt cx="6433560" cy="62064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220840" y="5972040"/>
              <a:ext cx="57844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"/>
            <p:cNvPicPr/>
            <p:nvPr/>
          </p:nvPicPr>
          <p:blipFill>
            <a:blip r:embed="rId2"/>
            <a:stretch/>
          </p:blipFill>
          <p:spPr>
            <a:xfrm>
              <a:off x="1571760" y="5929200"/>
              <a:ext cx="50472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flag"/>
          <p:cNvPicPr/>
          <p:nvPr/>
        </p:nvPicPr>
        <p:blipFill>
          <a:blip r:embed="rId3"/>
          <a:stretch/>
        </p:blipFill>
        <p:spPr>
          <a:xfrm>
            <a:off x="179280" y="260280"/>
            <a:ext cx="165744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85560" y="13568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fumo wa Uchambuzi wa Uhakika wa Chakula na Lish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MUCHALI), Tanz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285920" y="3500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Tanzania Food Security and Nutrition Analysis Syste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000080" y="4500720"/>
            <a:ext cx="79246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to the Food Security Information Network (FSIN) Consultative Con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Park Hotel, Nairobi, KENYA: 8-9 Sept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Vedasto Rutachokozibwa, FAO/Tan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169-CF29-48CC-960F-05D37022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A25-7755-46B6-B7A2-72F5F13A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CHALI CONCEPTUAL FRAMEWORK: 3 PILL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8209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, Tanzania Pi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F15-FA61-423F-9F6E-B648129D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16000" y="1584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vidence-based Decision Making Framework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49480" y="3716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stitutional Framework.pp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30400" y="5400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erational Framework.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9320" y="1197000"/>
            <a:ext cx="8140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1: To influence decision making of FS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87480" y="3406680"/>
            <a:ext cx="738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2: Multi-institutional collaboratio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42920" y="5041800"/>
            <a:ext cx="7383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llar 3: Multi-sectoral collaboration throug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DB3-4CAF-4419-A434-5445F295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LEMENTATION OF MUCHALI, TANZA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DA99-6044-45D9-8C90-E575BDB6F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14400" y="1197000"/>
            <a:ext cx="7429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ment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14400" y="2286000"/>
            <a:ext cx="80154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ional MUCHALI Secretariat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cils’ MUCHLI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 Tanzania Secretariat/ Tea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0" t="2468" r="43184" b="0"/>
          <a:stretch/>
        </p:blipFill>
        <p:spPr>
          <a:xfrm>
            <a:off x="1357200" y="1000080"/>
            <a:ext cx="692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9980-5B38-47BB-B5FF-6C6CA588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uncil MUCHALI Team: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981000"/>
          <a:ext cx="7315200" cy="5648400"/>
        </p:xfrm>
        <a:graphic>
          <a:graphicData uri="http://schemas.openxmlformats.org/drawingml/2006/table">
            <a:tbl>
              <a:tblPr/>
              <a:tblGrid>
                <a:gridCol w="425520"/>
                <a:gridCol w="5184720"/>
                <a:gridCol w="170496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Planning Officer (DP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Agriculture and Livestock Development Officer (DAL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rop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Livestock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Nutrit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xtens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Health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ommunity Development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Cooperative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Trade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Fisheries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Agricultural Statistical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Environmental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Irrigation Offi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NGOs working in the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Farmers Groups/Associ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tive of Agro-Deal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1995-A3F9-4D57-B502-713CD22E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021-C155-49C9-9C50-2FFC43EFB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9280" y="1052640"/>
            <a:ext cx="8815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ownership of MUCH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CHALI is endorsed by the Government, Development Partners and the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/ sensitization of national high level decision makers for MUCHALI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mandate: Prime Minister’s Office (PM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FSN mandate: Ministry of Agriculture (MAF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of FSN professionals at nation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erm training on LFSNA and IPC (around 20-30 multi-sectoral professionals (national, regional – East Africa and SA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78F2-67F0-4188-BF5D-0F2C0F36A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79280" y="1052640"/>
            <a:ext cx="88153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MUCHALI to L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ed in Mtwara and Lindi Regions under UNDAF (2007-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on LFSNA and IPC for council teams (50 professionals from 12 LGAs in Mtwara and Lindi Regio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sion of FSN data management support (desktop computers to 12 L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/ sensitization of LGAs high level decision makers for MUCHALI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national FSN assessment, analysi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 one integrated FSN situation report for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intervention recommendations to TANDR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A539-B559-417D-BAE0-3750A3DB0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39640" y="1052640"/>
            <a:ext cx="845496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GAs in Lindi and Mtwara Regions are able to conduct own FSN assessment, analysi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e one integrated FSN situation report for the L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intervention recommendations to LGA Council (highest decision making bo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ALI capacity building activities incorporated 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1-2015 UNDAP Programme for Tanzania (US$ 160,000 per year p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GAs annual plans and budgets (ASDP/DAD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6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9A24-FDA3-431A-873F-00975E3C3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2492280"/>
            <a:ext cx="820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LLENGES/ LESSONS LE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6BCF-4583-4BF9-B3F5-22C291F7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1123920"/>
            <a:ext cx="754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MUCH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LI Conceptu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/ Lessons lea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EE3-13C2-4321-99C5-D6F0C7C0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57160" y="1928880"/>
            <a:ext cx="81374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nfluence (bias) – politics and decision-making on food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quick results vs rigorous evidence-bas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A77-8B63-4A2E-BDCF-22DCEDCE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84280" y="1989000"/>
            <a:ext cx="817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for balancing individual institutional mandates and those of MUCHALI are not fully e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.g. critical staffing for FSN activitie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fficient but may not be available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zation of sufficient resources for MUCHALI operations (mainly financial and physical) - still un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05D-E848-45AC-8FF9-76B6BECB7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042920" y="981000"/>
            <a:ext cx="770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28800" y="1714680"/>
            <a:ext cx="82152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data management processes (e.g. collection, storage, access… at national and sub-national lev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database for livelihood systems to support rigorous data capturing for LF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ilor of tools and generated reports to audience at various levels not fully achieved (e.g. translations into Swahili, briefs, websit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ties to access data and information in the country are 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allenges on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74D-DF17-44C6-A796-0361F855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11280" y="249228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xt Steps for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C23-5A32-4E43-B293-0580E71B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85880" y="1214280"/>
            <a:ext cx="813744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advoc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wareness/ sensitization for high level decision makers – national and LGA, private sector and the public to commit resources for support of MUCHALI  programme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protocols/ agreements on the terms of engagement and commitment for MUCHALI programmes and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line MUCHALI work plans to conform to relevant stakeholders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 guidelines for collect, process, analyze, interpret, write reports and disseminate LFS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1071720"/>
            <a:ext cx="8244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velop and consolidate database for livelihood systems to support rigorous data capturing for LFSN and use of IPC protocols to strengthen MUCH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e database on key LFSN at all levels – link through national data systems such as “CountryStat Program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ing tools and processes for 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capacit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capacity of FSN professionals at all levels for MUCHALI data management, analysis and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activities under the UNDAP, SADC, I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 MUCHALI TO Produce and disseminate tailor-made FSN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0">
              <a:spcBef>
                <a:spcPts val="24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544F-FFA3-42B0-ACC8-806B41879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xt Steps for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ill, national, regional and international support is critically needed to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walk the talk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10E8-E427-4D8B-96F7-A68E07CF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724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an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C527-5487-4AC2-AD6D-CE3FA50E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2" descr="flag"/>
          <p:cNvPicPr/>
          <p:nvPr/>
        </p:nvPicPr>
        <p:blipFill>
          <a:blip r:embed="rId1"/>
          <a:stretch/>
        </p:blipFill>
        <p:spPr>
          <a:xfrm>
            <a:off x="179280" y="260280"/>
            <a:ext cx="1657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C85B-96AB-4208-A7E0-D7C62636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617920" y="2924280"/>
            <a:ext cx="39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4360" y="2678040"/>
            <a:ext cx="8294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Is a system's framework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nalysi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lihoods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d security and nutrition data/ information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4360" y="1197000"/>
            <a:ext cx="8140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Is a multi-institutional, multi-secto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for food security and nutrition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F85-6781-4FE7-8944-32F72EA4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07960" y="4437000"/>
            <a:ext cx="8296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UCHALI has adopted the IPC( Integrated Food Security Phase Classification) for analysis and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01BD-D2AD-4E0B-BCF4-85E08EB5F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17920" y="2924280"/>
            <a:ext cx="3935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CCC0-21A9-4BDF-B6DC-951471B15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00080" y="1214280"/>
            <a:ext cx="7929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or1999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 institutions and agencies conducted independent assessments and produced uncoordinated FSN reports and recommendations for interven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143000" y="3071880"/>
            <a:ext cx="7786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0-2009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Food Security Information Team (FSIT) was established to coordinate food security assessments, analyses and repor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43000" y="4786200"/>
            <a:ext cx="7786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t FS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ed challeng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1CF-2841-4F83-ABE1-DDAF9677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28800" y="1000080"/>
            <a:ext cx="592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hallenges of F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28800" y="1714680"/>
            <a:ext cx="7758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emphasis on food availability: less or no consideration of livelihoods and other food security pillars (e.g. access to food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nalytical linkages between food security and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capacity at the LGAs level for food security and nutri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xplicit linkages between food and nutrition security analysis and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42920" y="542916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s prompting consultations inclu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review of information systems in Tanzania (2008-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C2A-60B2-4813-B0AC-5963B43E4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928800" y="1000080"/>
            <a:ext cx="8215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nclusions and recommendations from consul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928800" y="2143080"/>
            <a:ext cx="75438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from existing system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information from multiple sectors: nutrition, markets, agriculture, livestock, fisheries, climate,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tegrated database systems for data collection, storage, access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ter-agency analytical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linkages between council (district) and national lev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alytical capacity at LGA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922-66CD-4B63-9CE7-790F2987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49320" y="1268280"/>
            <a:ext cx="808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put from consultations evolved into the development of MUCHALI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95280" y="3573360"/>
            <a:ext cx="8288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ed by FAO through the “One UN”  UNDAF Programme for Tanzania (2007-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olution of MUCHALI, Tanzania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81120" y="5283360"/>
            <a:ext cx="8002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ed by Nick Haan and Vedasto Rutachokozibwa with technical backstopping of Mark Smul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5:24:59Z</dcterms:created>
  <dc:creator>mclean</dc:creator>
  <dc:description/>
  <dc:language>en-US</dc:language>
  <cp:lastModifiedBy>RUTACHOKOZIBWA</cp:lastModifiedBy>
  <dcterms:modified xsi:type="dcterms:W3CDTF">2011-09-08T20:02:01Z</dcterms:modified>
  <cp:revision>347</cp:revision>
  <dc:subject/>
  <dc:title>Slide 1</dc:title>
</cp:coreProperties>
</file>